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97D-69D5-4D45-9944-C30BE2B8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9EB-647D-40C9-A7D0-68FA2117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5B9-AE29-4042-AF89-9C0C48F1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AB6-2C7C-46C0-90DF-F224263C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E63-D37A-4373-9438-D9BC4662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B00-A9F4-4F3E-83B8-271E618D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7A3-60BC-46D0-B480-5F4AAC4C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806-DBB6-48CA-AB8D-22A873DB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F56-BAEA-4801-87B2-D50DDB17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F49-8320-48BD-BBC0-3F7CD225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58F-5D42-4E7B-9C14-C723895E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68F-AED2-4961-B792-E9BD120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D0C0-D240-4237-B5F4-2979745BA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Administrator</cp:lastModifiedBy>
  <dcterms:modified xsi:type="dcterms:W3CDTF">2015-09-02T02:45:34Z</dcterms:modified>
  <cp:revision>14</cp:revision>
  <dc:subject/>
  <dc:title>Slide 1</dc:title>
</cp:coreProperties>
</file>